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8BFB-E281-42B1-87AE-7043076B0E6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54A-819E-4423-BD3B-C15485A6EC66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A05C-F73B-47CB-8DE1-FDE730CE2AFC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566B-4828-4629-8D2C-5C3DCEDDBBB9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C1B4-3F71-4956-8FC5-E88011A2CBBB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9E62-37CE-4CF4-9F00-A2E6F6B29870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9F38-655B-40FF-B355-92C1A8A246CC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6200-8E7D-4197-8AB2-6BA2F9EF26A8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561A-514B-419B-A63C-5D4DE229A330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53F-2844-4322-89F8-7669AFAF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E22-D717-41C3-8C37-A6439CEC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46F-D3EF-4735-8E6E-AA9217E9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DA2-16A2-4A9F-A9E7-6F5BA1E6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F8E2-DDEC-4D6D-90F7-5B6AC3D7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2D3C-DE43-4B17-A649-E7538639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B9B0-1EAE-4613-825F-26DE9D9A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824D-4073-4B48-915C-8CBBD669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DE3C-6514-4AAF-8A74-489663C7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1708-1312-47F8-ADA7-7FCD7A5E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364E-98A1-4358-B1B5-17DAA621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6CF-34E6-4DAD-BD30-855F1435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D3D7-188F-4D51-B65F-37332E8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BD43-F25B-42A1-A3A1-DC54138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7F4B-F041-4D45-AFD9-38A93CE8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8391-61C1-4AFF-90EA-15A16C97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A31C-9460-4EC8-8345-F10EE41A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1C3-DB12-434C-8487-5B2C4618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72D-F0CC-48A0-A4A7-0612D8C9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F81-6583-4F18-8680-7B215A8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44D-49E2-400A-9FD3-FE455034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C3A-4FC4-4955-A26B-F6AE64F0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67C-01A6-447D-9AFC-24A92B8B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590-67F9-49BA-8B91-50C1590F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9E71-C46E-428E-AD26-328A0CDB4D09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BF5B-6EA7-4B1F-A37E-4693AAEAED74}" type="slidenum">
              <a:rPr b="0" lang="fi-FI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urkuenergia.fi/index.php?page=312fcb1be0018a35895f59c24bac58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tsikko 1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7785360" cy="1693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rcRect l="0" t="0" r="920" b="50005"/>
          <a:stretch/>
        </p:blipFill>
        <p:spPr>
          <a:xfrm>
            <a:off x="1785960" y="3143160"/>
            <a:ext cx="5624640" cy="1838520"/>
          </a:xfrm>
          <a:prstGeom prst="rect">
            <a:avLst/>
          </a:prstGeom>
          <a:ln w="0">
            <a:noFill/>
          </a:ln>
        </p:spPr>
      </p:pic>
      <p:sp>
        <p:nvSpPr>
          <p:cNvPr id="91" name="Suora yhdysviiva 5"/>
          <p:cNvSpPr/>
          <p:nvPr/>
        </p:nvSpPr>
        <p:spPr>
          <a:xfrm>
            <a:off x="1857240" y="5000760"/>
            <a:ext cx="45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410082"/>
                </a:solidFill>
                <a:uFillTx/>
                <a:latin typeface="Book Antiqua"/>
                <a:hlinkClick r:id="rId1"/>
              </a:rPr>
              <a:t>Eri laitteiden sähkötehoj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öytätietokone on joka neljännen kerrostalokodin sähkösyöpöin laite. Tuoreen tutkimuksen mukaan pöytäkone kuluttaa keskimäärin 500 kWh vuodessa, mikä vastaa jääkaappipakastimen kulutust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Sähkölaitteiden teho ilmoitetaan watteina (W) tai kilowatteina (kW). 1 kilowatti = 1000 wattia. Sähköä kuluu yhden kilowatin verran, kun yhden kilowatin (kW) eli 1000 watin (W) tehoista laitetta käytetään yksi tunti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Kun lasket kulutusta, on teho aina muunnettava wateista kilowateiksi ja käyttöaika tunneiksi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Saat muutettua kulutuksen euroiksi ja senteiksi, kun kerrot sen oman sähkötuotteesi kWh-hinnalla. Esimerkki:1 kWh x 10 snt/kWh = 10 snt 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tsikko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58204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lmiustilojen kulutustehoissa on eroja. Esim. TV vie keskimäärin 5W ja video 6W. Kellot, radiot ja tietokoneet vie keskimäärin hieman alle 2W. Stereosarjat vie jopa 10W valmiustilassaa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20 sähkölaitetta valmiustilassa aiheuttaa  900kWh :n vuosikulutuksen– euroina siis jotain 90 euro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lmiustilojen arvioitiin kuluttavan Suomessa vuonna 2000 noin 500 000 000 kWh eli lähes </a:t>
            </a:r>
            <a:r>
              <a:rPr b="1" lang="fi-FI" sz="2800" spc="-1" strike="noStrike">
                <a:solidFill>
                  <a:srgbClr val="ffffff"/>
                </a:solidFill>
                <a:latin typeface="Book Antiqua"/>
              </a:rPr>
              <a:t>puolet kulutuselektroniikkalaitteiden kokonaiskulutuksesta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tsikko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9620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Tekstikehys 2"/>
          <p:cNvSpPr/>
          <p:nvPr/>
        </p:nvSpPr>
        <p:spPr>
          <a:xfrm>
            <a:off x="-413280" y="928800"/>
            <a:ext cx="1036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n katsot tv:tä  3 h päivässä. Television teho on 100W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n  kahvinkeitin on päällä 1h päivässä. Kahvinkeittimen te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on 800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3. Kun imuroit 2 h viikossa. Imurin teho on 2000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4. Käytät sähkösaunaa 4 h viikossa. Sähkökiukaan teho on 5000 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5.Lukulamppusi on päällä 5h päivässä. Lukulampun teho on 60 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kstikehys 3"/>
          <p:cNvSpPr/>
          <p:nvPr/>
        </p:nvSpPr>
        <p:spPr>
          <a:xfrm>
            <a:off x="29520" y="5715000"/>
            <a:ext cx="91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Vaihdat 60 W:n hehkulamput 11 W:n energiansäästölampuik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Sinulla on kotona 15 hehkulamppua. Jos jokainen lamppu on päällä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Keskimäärin 3h päivässä, kuinka paljon säästät sähkölaskussa vuoden aika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kstikehys 4"/>
          <p:cNvSpPr/>
          <p:nvPr/>
        </p:nvSpPr>
        <p:spPr>
          <a:xfrm>
            <a:off x="40680" y="3786120"/>
            <a:ext cx="85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6. Luokassa olevien loisteputkien teho on 18 W. Kuinka palj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luokan valaistus maksaa kuukaudessa, jos lamput o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päällä 6h koulupäivinä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kstikehys 5"/>
          <p:cNvSpPr/>
          <p:nvPr/>
        </p:nvSpPr>
        <p:spPr>
          <a:xfrm>
            <a:off x="51480" y="4929120"/>
            <a:ext cx="88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Jos koulussa on 15 samanlaista luokkaa, kuinka paljon raha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uluu koulun valaistukseen vuodes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kstikehys 6"/>
          <p:cNvSpPr/>
          <p:nvPr/>
        </p:nvSpPr>
        <p:spPr>
          <a:xfrm>
            <a:off x="800640" y="785880"/>
            <a:ext cx="32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kWh:n hinta 10 snt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tsikko 1" descr=""/>
          <p:cNvPicPr/>
          <p:nvPr/>
        </p:nvPicPr>
        <p:blipFill>
          <a:blip r:embed="rId1"/>
          <a:stretch/>
        </p:blipFill>
        <p:spPr>
          <a:xfrm>
            <a:off x="38412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Tekstikehys 2"/>
          <p:cNvSpPr/>
          <p:nvPr/>
        </p:nvSpPr>
        <p:spPr>
          <a:xfrm>
            <a:off x="468720" y="150012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1. Muuta watit kilowateiksi jakamalla tuhannel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kstikehys 3"/>
          <p:cNvSpPr/>
          <p:nvPr/>
        </p:nvSpPr>
        <p:spPr>
          <a:xfrm>
            <a:off x="519840" y="228600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Muuta aika tunneiks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kstikehys 4"/>
          <p:cNvSpPr/>
          <p:nvPr/>
        </p:nvSpPr>
        <p:spPr>
          <a:xfrm>
            <a:off x="580680" y="3000240"/>
            <a:ext cx="778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Laske kWh:ien lukumäärä kertomalla kilowat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ja aika tuntein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kstikehys 6"/>
          <p:cNvSpPr/>
          <p:nvPr/>
        </p:nvSpPr>
        <p:spPr>
          <a:xfrm>
            <a:off x="544320" y="4214880"/>
            <a:ext cx="85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4. Kerro kWh:ien lukumäärä  sähköenergian hinnall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uorakulmio 1"/>
          <p:cNvSpPr/>
          <p:nvPr/>
        </p:nvSpPr>
        <p:spPr>
          <a:xfrm>
            <a:off x="1643040" y="1000080"/>
            <a:ext cx="66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Franklin Gothic Book"/>
              </a:rPr>
              <a:t>Käytät puolen tunnin  ajan hiustenkuivaajaa, joka on teholtaan 1000 W. 1 kWh:n hinta on 10 s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uorakulmio 2"/>
          <p:cNvSpPr/>
          <p:nvPr/>
        </p:nvSpPr>
        <p:spPr>
          <a:xfrm>
            <a:off x="1714680" y="264312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1. Teho kilowateiksi: 1000 w = 1k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kstikehys 4"/>
          <p:cNvSpPr/>
          <p:nvPr/>
        </p:nvSpPr>
        <p:spPr>
          <a:xfrm>
            <a:off x="1729080" y="3429000"/>
            <a:ext cx="50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Aika tunneiksi: = ½ h = 0,5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kstikehys 5"/>
          <p:cNvSpPr/>
          <p:nvPr/>
        </p:nvSpPr>
        <p:spPr>
          <a:xfrm>
            <a:off x="1671120" y="4214880"/>
            <a:ext cx="56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Kulutus = 1 kWh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 0,5 h = 0,5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kstikehys 6"/>
          <p:cNvSpPr/>
          <p:nvPr/>
        </p:nvSpPr>
        <p:spPr>
          <a:xfrm>
            <a:off x="1735200" y="4929120"/>
            <a:ext cx="44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4. Hinta = 0,5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10 snt = 5 s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uorakulmio 1"/>
          <p:cNvSpPr/>
          <p:nvPr/>
        </p:nvSpPr>
        <p:spPr>
          <a:xfrm>
            <a:off x="1500120" y="428760"/>
            <a:ext cx="592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Franklin Gothic Book"/>
              </a:rPr>
              <a:t>Käytät kymmenen minuutin ajan kahvinkeitintä, joka on teholtaan 1200 W. IkWh:n hinta on 10 s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kstikehys 3"/>
          <p:cNvSpPr/>
          <p:nvPr/>
        </p:nvSpPr>
        <p:spPr>
          <a:xfrm>
            <a:off x="1603800" y="5357880"/>
            <a:ext cx="48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4. Hinta =0,2 · 10snt = 20 s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1580400" y="2500200"/>
            <a:ext cx="63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1. Teho kilowatteina:1200 W = 1,2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1592640" y="3429000"/>
            <a:ext cx="62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2. Aika tunteina:10 min = 1/6 h = 0,17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kstikehys 6"/>
          <p:cNvSpPr/>
          <p:nvPr/>
        </p:nvSpPr>
        <p:spPr>
          <a:xfrm>
            <a:off x="1601280" y="4429080"/>
            <a:ext cx="62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3.  Kulutus = 1,2 kWh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0,17 h = 0,2 k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4:16:47Z</dcterms:created>
  <dc:creator>Ritva Tamminen</dc:creator>
  <dc:description/>
  <dc:language>en-US</dc:language>
  <cp:lastModifiedBy>Ritva Tamminen</cp:lastModifiedBy>
  <dcterms:modified xsi:type="dcterms:W3CDTF">2010-01-24T08:42:34Z</dcterms:modified>
  <cp:revision>11</cp:revision>
  <dc:subject/>
  <dc:title>Puimuri - kaava</dc:title>
</cp:coreProperties>
</file>